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9A3-2DC2-425A-A436-C1B3F67E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919-21AD-49D4-A09F-E3CD7B92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E55-D9E2-468A-83ED-D29C37C4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8D4-6126-47AF-8FAC-B6F4EA40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D57-7F28-4FD2-944C-F5DA55E8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6A6-5A69-489F-9712-4C69ADCD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332-B61A-493B-8F5C-DB076EDD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BEE-99D7-4362-9681-98CEA48E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CC2-1ECC-4FED-B75E-A215D35B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595-11E8-40E5-BAD2-D63258AF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8EB-C287-4CCA-9334-F43E3F63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0E7-7106-4864-AC18-CEFD9D61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7D7F-61EE-4E3D-AC39-D39C6451E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 to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serve the Lo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8:39Z</dcterms:created>
  <dc:creator>Anon Anon</dc:creator>
  <dc:description/>
  <dc:language>en-US</dc:language>
  <cp:lastModifiedBy>Anon Anon</cp:lastModifiedBy>
  <dcterms:modified xsi:type="dcterms:W3CDTF">2005-08-09T05:28:13Z</dcterms:modified>
  <cp:revision>8</cp:revision>
  <dc:subject/>
  <dc:title>PowerPoint Presentation</dc:title>
</cp:coreProperties>
</file>